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690A6E4-3489-4FD9-9F14-D81CF5351C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65983A53-A244-40B5-A0B7-F365BF3F0D83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imates are incorre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sks are too bi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sks are too smal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sks are in the wrong ord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correct tasks are not in the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c,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17602DE-920D-4143-98EC-50CA6165621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ject ta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chedule ta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ek ta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 section on determining project statu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 the time as soon as you rememb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st case, make a rule like “I won’t go to lunch without updating my time log” or “I won’t leave work without updating my time log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B1FE5DB-0ED0-41A5-B288-6C38359CF50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753EF8A-4F6B-476A-8C1C-D1C6EAB96EA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1932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st this with a typical team meeting (I.e., non-TSP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0CECDDF-124D-4A46-98A8-51EF53D7D12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B57A4B2-DE0D-4409-8C2D-0872DC2496F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49C0CCC-672F-4FD7-AD2B-EEDD7DA5413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2A6AF0E-E7A3-4EDB-A6F5-6642382318A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7B69BBA-8590-48B6-A0A2-77AD034D235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1932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 this slide, discuss team leader behavioral shif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4DA53CB-95D1-49D2-8D2A-B4211674A16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EF664E4-1266-47A2-80D5-8102623843F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50AC43F-6E89-48CD-ABA2-A747020CB98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1B32515-5ABE-45CF-8D17-D7820FF0BD3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EA8A97F-3929-4E34-97A5-9EFF1170997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1932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weeks pass, individuals can look at their actual versus planned hours on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CH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for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the team gains experience using the TSP process and detailed planning, they will get better at i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sequently, on-task time will improve over time because interruption time and unplanned task time will go dow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 ways to improve on-task time inclu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rehensively planning for every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dicating periods of time each week to working on task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actual on-task time each we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gnizing and assess unplanned time and interru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ing to account for unplanned time and interruptions in future pla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CC6EC85-1828-493B-9ADA-1EE3FAD7C5D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82529AA-8D7E-4B20-A1E6-472AD351582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830ECC0-7000-466A-9954-67A5A0E9B4F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A2A3D13-2A74-4A22-AF91-4F45CB96328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A01F683-DD5F-41A5-837E-23224E7E066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5251A2CA-9350-45AA-B94B-ED24708AF8D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362A0818-8FED-4F1B-999F-B53F3A540225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Tracking and Reporting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ay-to-Day Plan Management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-to-da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059360" y="3521160"/>
            <a:ext cx="4109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ask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most days, task management involves nothing more th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ing the task plan to make sure that the tasks to be worked on that day are in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rking tasks complete as work is finish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some days, task management may also invol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-organizing task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leting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rging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litting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ing problems with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cket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ad balanc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6" name="Picture 5" descr="C:\Documents and Settings\tchick\Local Settings\Temporary Internet Files\Content.IE5\2XCDIHAD\MCj00788120000[1].wmf"/>
          <p:cNvPicPr/>
          <p:nvPr/>
        </p:nvPicPr>
        <p:blipFill>
          <a:blip r:embed="rId1"/>
          <a:stretch/>
        </p:blipFill>
        <p:spPr>
          <a:xfrm>
            <a:off x="6421320" y="3911760"/>
            <a:ext cx="20098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ting Tas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rking tasks complete is importa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the TSP, there is a Planned Value (PV) associated with each tas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V is the percentage that task contributes to total planned task hou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10 plan-hour task of a 100 plan-hour total has a PV of 1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task earns it’s planned value when it is marked comple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re is no partial credit (0 Earned Value or 100% EV per task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EV is always equal to the PV (regardless of the actual effort expended on the task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rganizing Tas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morning, before individuals start work, they should open their task plan a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ve completed tasks to the top of the task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ve open tasks right below the completed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ure the tasks they will be working on for the next two weeks (or the near term) are right below the open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y don’t see a task for the work they will be doing today, they should add it to the plan (tell their team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y see a task in their plan that they know they will not be doing, they should delete it from their plan (tell their team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cognizing Problems with Tasks -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asks are structured badly, lots of tasks will be incomple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may indicate too many parallel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is this likely to affect the team’s statu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should the team do about thi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2030400" y="3741840"/>
            <a:ext cx="33012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014840" y="3938760"/>
            <a:ext cx="42120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2953440" y="3938760"/>
            <a:ext cx="47772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2030400" y="3330720"/>
            <a:ext cx="33012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2030400" y="4152960"/>
            <a:ext cx="33012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2030400" y="4565520"/>
            <a:ext cx="330120" cy="25272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39" name="AutoShape 10"/>
          <p:cNvCxnSpPr>
            <a:stCxn id="134" idx="3"/>
            <a:endCxn id="136" idx="3"/>
          </p:cNvCxnSpPr>
          <p:nvPr/>
        </p:nvCxnSpPr>
        <p:spPr>
          <a:xfrm flipV="1">
            <a:off x="1442880" y="3546000"/>
            <a:ext cx="635760" cy="5277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0" name="AutoShape 11"/>
          <p:cNvCxnSpPr>
            <a:stCxn id="134" idx="3"/>
            <a:endCxn id="133" idx="2"/>
          </p:cNvCxnSpPr>
          <p:nvPr/>
        </p:nvCxnSpPr>
        <p:spPr>
          <a:xfrm flipV="1">
            <a:off x="1442880" y="3867840"/>
            <a:ext cx="588240" cy="2055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1" name="AutoShape 12"/>
          <p:cNvCxnSpPr>
            <a:stCxn id="134" idx="3"/>
            <a:endCxn id="137" idx="2"/>
          </p:cNvCxnSpPr>
          <p:nvPr/>
        </p:nvCxnSpPr>
        <p:spPr>
          <a:xfrm>
            <a:off x="1442880" y="4073400"/>
            <a:ext cx="588240" cy="2073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2" name="AutoShape 13"/>
          <p:cNvCxnSpPr>
            <a:stCxn id="134" idx="3"/>
            <a:endCxn id="138" idx="1"/>
          </p:cNvCxnSpPr>
          <p:nvPr/>
        </p:nvCxnSpPr>
        <p:spPr>
          <a:xfrm>
            <a:off x="1442880" y="4073040"/>
            <a:ext cx="635760" cy="52920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3" name="AutoShape 14"/>
          <p:cNvCxnSpPr>
            <a:stCxn id="133" idx="6"/>
            <a:endCxn id="135" idx="1"/>
          </p:cNvCxnSpPr>
          <p:nvPr/>
        </p:nvCxnSpPr>
        <p:spPr>
          <a:xfrm>
            <a:off x="2360520" y="3868200"/>
            <a:ext cx="588240" cy="2055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4" name="AutoShape 15"/>
          <p:cNvCxnSpPr>
            <a:stCxn id="136" idx="5"/>
            <a:endCxn id="135" idx="1"/>
          </p:cNvCxnSpPr>
          <p:nvPr/>
        </p:nvCxnSpPr>
        <p:spPr>
          <a:xfrm>
            <a:off x="2313000" y="3546360"/>
            <a:ext cx="635760" cy="5277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5" name="AutoShape 16"/>
          <p:cNvCxnSpPr>
            <a:stCxn id="137" idx="6"/>
            <a:endCxn id="135" idx="1"/>
          </p:cNvCxnSpPr>
          <p:nvPr/>
        </p:nvCxnSpPr>
        <p:spPr>
          <a:xfrm flipV="1">
            <a:off x="2360520" y="4073040"/>
            <a:ext cx="588240" cy="2073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6" name="AutoShape 17"/>
          <p:cNvCxnSpPr>
            <a:stCxn id="138" idx="7"/>
            <a:endCxn id="135" idx="1"/>
          </p:cNvCxnSpPr>
          <p:nvPr/>
        </p:nvCxnSpPr>
        <p:spPr>
          <a:xfrm flipV="1">
            <a:off x="2313000" y="4073040"/>
            <a:ext cx="635760" cy="52920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grpSp>
        <p:nvGrpSpPr>
          <p:cNvPr id="147" name="Group 18"/>
          <p:cNvGrpSpPr/>
          <p:nvPr/>
        </p:nvGrpSpPr>
        <p:grpSpPr>
          <a:xfrm>
            <a:off x="4779000" y="3932280"/>
            <a:ext cx="3691080" cy="271440"/>
            <a:chOff x="4779000" y="3932280"/>
            <a:chExt cx="3691080" cy="271440"/>
          </a:xfrm>
        </p:grpSpPr>
        <p:sp>
          <p:nvSpPr>
            <p:cNvPr id="148" name="Oval 19"/>
            <p:cNvSpPr/>
            <p:nvPr/>
          </p:nvSpPr>
          <p:spPr>
            <a:xfrm>
              <a:off x="6120000" y="3941640"/>
              <a:ext cx="330120" cy="25236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9" name="AutoShape 20"/>
            <p:cNvSpPr/>
            <p:nvPr/>
          </p:nvSpPr>
          <p:spPr>
            <a:xfrm>
              <a:off x="4779000" y="3932280"/>
              <a:ext cx="421200" cy="269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0" name="AutoShape 21"/>
            <p:cNvSpPr/>
            <p:nvPr/>
          </p:nvSpPr>
          <p:spPr>
            <a:xfrm>
              <a:off x="7992360" y="3934080"/>
              <a:ext cx="477720" cy="269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don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1" name="Oval 22"/>
            <p:cNvSpPr/>
            <p:nvPr/>
          </p:nvSpPr>
          <p:spPr>
            <a:xfrm>
              <a:off x="5497560" y="3941640"/>
              <a:ext cx="330120" cy="25236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2" name="Oval 23"/>
            <p:cNvSpPr/>
            <p:nvPr/>
          </p:nvSpPr>
          <p:spPr>
            <a:xfrm>
              <a:off x="6742080" y="3941640"/>
              <a:ext cx="330120" cy="25236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3" name="Oval 24"/>
            <p:cNvSpPr/>
            <p:nvPr/>
          </p:nvSpPr>
          <p:spPr>
            <a:xfrm>
              <a:off x="7364520" y="3941640"/>
              <a:ext cx="330120" cy="25236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154" name="AutoShape 25"/>
            <p:cNvCxnSpPr>
              <a:stCxn id="149" idx="3"/>
              <a:endCxn id="151" idx="2"/>
            </p:cNvCxnSpPr>
            <p:nvPr/>
          </p:nvCxnSpPr>
          <p:spPr>
            <a:xfrm>
              <a:off x="5206680" y="4067280"/>
              <a:ext cx="291240" cy="216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55" name="AutoShape 26"/>
            <p:cNvCxnSpPr>
              <a:stCxn id="148" idx="6"/>
              <a:endCxn id="152" idx="2"/>
            </p:cNvCxnSpPr>
            <p:nvPr/>
          </p:nvCxnSpPr>
          <p:spPr>
            <a:xfrm>
              <a:off x="6449760" y="4068360"/>
              <a:ext cx="292680" cy="108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56" name="AutoShape 27"/>
            <p:cNvCxnSpPr>
              <a:stCxn id="151" idx="6"/>
              <a:endCxn id="148" idx="2"/>
            </p:cNvCxnSpPr>
            <p:nvPr/>
          </p:nvCxnSpPr>
          <p:spPr>
            <a:xfrm>
              <a:off x="5827680" y="4068360"/>
              <a:ext cx="293040" cy="108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57" name="AutoShape 28"/>
            <p:cNvCxnSpPr>
              <a:stCxn id="152" idx="6"/>
              <a:endCxn id="153" idx="2"/>
            </p:cNvCxnSpPr>
            <p:nvPr/>
          </p:nvCxnSpPr>
          <p:spPr>
            <a:xfrm>
              <a:off x="7072200" y="4068360"/>
              <a:ext cx="293040" cy="108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58" name="AutoShape 29"/>
            <p:cNvCxnSpPr>
              <a:stCxn id="153" idx="6"/>
              <a:endCxn id="150" idx="1"/>
            </p:cNvCxnSpPr>
            <p:nvPr/>
          </p:nvCxnSpPr>
          <p:spPr>
            <a:xfrm>
              <a:off x="7694280" y="4068360"/>
              <a:ext cx="292680" cy="108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</p:grpSp>
      <p:sp>
        <p:nvSpPr>
          <p:cNvPr id="159" name="Text Box 30"/>
          <p:cNvSpPr/>
          <p:nvPr/>
        </p:nvSpPr>
        <p:spPr>
          <a:xfrm>
            <a:off x="3620520" y="3726000"/>
            <a:ext cx="902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instea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o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tretch/>
        </p:blipFill>
        <p:spPr>
          <a:xfrm>
            <a:off x="6913440" y="5154480"/>
            <a:ext cx="16066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cognizing Problems with Tasks -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s are too lar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 estimates for single tasks are much larger than an individual’s average weekly scheduled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ual time for completed single tasks is much larger than an individuals average weekly scheduled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is this likely to affect the team’s statu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should the team do about thi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792520" y="4059360"/>
            <a:ext cx="747720" cy="57132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057680" y="4208400"/>
            <a:ext cx="42120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3807360" y="4208400"/>
            <a:ext cx="47772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1746360" y="4043520"/>
            <a:ext cx="784080" cy="5997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4" idx="3"/>
            <a:endCxn id="166" idx="2"/>
          </p:cNvCxnSpPr>
          <p:nvPr/>
        </p:nvCxnSpPr>
        <p:spPr>
          <a:xfrm>
            <a:off x="1485720" y="4343040"/>
            <a:ext cx="261000" cy="108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68" name="AutoShape 9"/>
          <p:cNvCxnSpPr>
            <a:stCxn id="163" idx="6"/>
            <a:endCxn id="165" idx="1"/>
          </p:cNvCxnSpPr>
          <p:nvPr/>
        </p:nvCxnSpPr>
        <p:spPr>
          <a:xfrm flipV="1">
            <a:off x="3539880" y="4343040"/>
            <a:ext cx="262080" cy="21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69" name="AutoShape 10"/>
          <p:cNvCxnSpPr>
            <a:stCxn id="166" idx="6"/>
            <a:endCxn id="163" idx="2"/>
          </p:cNvCxnSpPr>
          <p:nvPr/>
        </p:nvCxnSpPr>
        <p:spPr>
          <a:xfrm>
            <a:off x="2530440" y="4343400"/>
            <a:ext cx="262800" cy="21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sp>
        <p:nvSpPr>
          <p:cNvPr id="170" name="Oval 11"/>
          <p:cNvSpPr/>
          <p:nvPr/>
        </p:nvSpPr>
        <p:spPr>
          <a:xfrm>
            <a:off x="6229440" y="4218120"/>
            <a:ext cx="33012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4975560" y="4208400"/>
            <a:ext cx="42120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7971480" y="4210200"/>
            <a:ext cx="47772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651640" y="4218120"/>
            <a:ext cx="33012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6808680" y="4218120"/>
            <a:ext cx="33048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Oval 16"/>
          <p:cNvSpPr/>
          <p:nvPr/>
        </p:nvSpPr>
        <p:spPr>
          <a:xfrm>
            <a:off x="7386480" y="4218120"/>
            <a:ext cx="33048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76" name="AutoShape 17"/>
          <p:cNvCxnSpPr>
            <a:stCxn id="171" idx="3"/>
            <a:endCxn id="173" idx="2"/>
          </p:cNvCxnSpPr>
          <p:nvPr/>
        </p:nvCxnSpPr>
        <p:spPr>
          <a:xfrm>
            <a:off x="5403960" y="4343400"/>
            <a:ext cx="248400" cy="21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7" name="AutoShape 18"/>
          <p:cNvCxnSpPr>
            <a:stCxn id="170" idx="6"/>
            <a:endCxn id="174" idx="2"/>
          </p:cNvCxnSpPr>
          <p:nvPr/>
        </p:nvCxnSpPr>
        <p:spPr>
          <a:xfrm>
            <a:off x="6559560" y="4344480"/>
            <a:ext cx="249840" cy="108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8" name="AutoShape 19"/>
          <p:cNvCxnSpPr>
            <a:stCxn id="173" idx="6"/>
            <a:endCxn id="170" idx="2"/>
          </p:cNvCxnSpPr>
          <p:nvPr/>
        </p:nvCxnSpPr>
        <p:spPr>
          <a:xfrm>
            <a:off x="5981760" y="4344480"/>
            <a:ext cx="248400" cy="108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9" name="AutoShape 20"/>
          <p:cNvCxnSpPr>
            <a:stCxn id="174" idx="6"/>
            <a:endCxn id="175" idx="2"/>
          </p:cNvCxnSpPr>
          <p:nvPr/>
        </p:nvCxnSpPr>
        <p:spPr>
          <a:xfrm>
            <a:off x="7138800" y="4344480"/>
            <a:ext cx="248040" cy="108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80" name="AutoShape 21"/>
          <p:cNvCxnSpPr>
            <a:stCxn id="175" idx="6"/>
            <a:endCxn id="172" idx="1"/>
          </p:cNvCxnSpPr>
          <p:nvPr/>
        </p:nvCxnSpPr>
        <p:spPr>
          <a:xfrm>
            <a:off x="7716960" y="4344480"/>
            <a:ext cx="249840" cy="108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sp>
        <p:nvSpPr>
          <p:cNvPr id="181" name="Text Box 22"/>
          <p:cNvSpPr/>
          <p:nvPr/>
        </p:nvSpPr>
        <p:spPr>
          <a:xfrm>
            <a:off x="4144680" y="3768840"/>
            <a:ext cx="902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instea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o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1"/>
          <a:stretch/>
        </p:blipFill>
        <p:spPr>
          <a:xfrm>
            <a:off x="6913440" y="5154480"/>
            <a:ext cx="16066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dicators of TASK Probl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1017720" y="1530360"/>
            <a:ext cx="7413480" cy="2093760"/>
          </a:xfrm>
          <a:prstGeom prst="rect">
            <a:avLst/>
          </a:prstGeom>
          <a:ln w="12600">
            <a:solidFill>
              <a:srgbClr val="39536b"/>
            </a:solidFill>
            <a:miter/>
          </a:ln>
        </p:spPr>
      </p:pic>
      <p:sp>
        <p:nvSpPr>
          <p:cNvPr id="185" name="Rectangle 3"/>
          <p:cNvSpPr/>
          <p:nvPr/>
        </p:nvSpPr>
        <p:spPr>
          <a:xfrm>
            <a:off x="717480" y="3803760"/>
            <a:ext cx="771048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ifference between Actual “Schedule hours this cycle to date” (24.8) and Actual “To-date hours for tasks completed” (2.1) shows the hours locked in unfinished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general rule of thumb is that there should be no more than one week’s worth of open task hours (12.4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are some other indicators of task problem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cket Tas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common to allocate resources for tasks team members know they will be doing that are scattered throughout the project, or will come up on an event-driven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ole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 elicitation meeting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d integration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se tasks, they may want to include a “bucket” of hours in your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“borrow” hours from the “bucket” as they execute some of the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88" name="Picture 4" descr="C:\Documents and Settings\tchick\Local Settings\Temporary Internet Files\Content.IE5\ATUNA1IJ\MCj03839380000[1].wmf"/>
          <p:cNvPicPr/>
          <p:nvPr/>
        </p:nvPicPr>
        <p:blipFill>
          <a:blip r:embed="rId1"/>
          <a:stretch/>
        </p:blipFill>
        <p:spPr>
          <a:xfrm>
            <a:off x="6969240" y="2544840"/>
            <a:ext cx="1585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oad Balancing Tas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ork progresses, some team members will get ahead of schedules as others fall behi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move tasks from team member 1 to team member 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task to team member 2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-estimate the task using team member 2’s historical data if appropri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1" name="Picture 8" descr="C:\Documents and Settings\tchick\Local Settings\Temporary Internet Files\Content.IE5\IJOLA5U7\MCj02955840000[1].wmf"/>
          <p:cNvPicPr/>
          <p:nvPr/>
        </p:nvPicPr>
        <p:blipFill>
          <a:blip r:embed="rId1"/>
          <a:stretch/>
        </p:blipFill>
        <p:spPr>
          <a:xfrm>
            <a:off x="2908440" y="4172040"/>
            <a:ext cx="28033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9c2108"/>
                </a:solidFill>
                <a:latin typeface="Arial"/>
              </a:rPr>
              <a:t>Why Do They Need Sufficient Schedule Hours?</a:t>
            </a:r>
            <a:endParaRPr b="1" lang="en-US" sz="24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ask plan shows a total of 200 estimated hours for all tasks in the plan, then the schedule plan should show an availability of at least 200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ough available hours are needed to enable calculation of planned completion dates, PV, and EV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utline: Running the Proj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496520"/>
            <a:ext cx="812628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SP roles:  getting roles to be successful on a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racking and reporting:  collecting data, the weekly team meeting, reporting to managemen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the baseline plan:  keeping the team commitment, evaluating status, adjusting plans when necessar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a quality focus:  responsibilities for quality, TSP quality method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:  areas where the coach helps TSP disciplin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 leader:  handling problems with a TSP team lead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ost-launch Coaching:  post-launch coaching strategy and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0" name="AutoShape 2052"/>
          <p:cNvSpPr/>
          <p:nvPr/>
        </p:nvSpPr>
        <p:spPr>
          <a:xfrm>
            <a:off x="299880" y="2076480"/>
            <a:ext cx="327240" cy="287280"/>
          </a:xfrm>
          <a:prstGeom prst="rightArrow">
            <a:avLst>
              <a:gd name="adj1" fmla="val 50000"/>
              <a:gd name="adj2" fmla="val 28477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act of Task Modification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mpact does task addition/deletion/modification have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line plan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value of completed, open, and to-do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ned value of completed, open, and to-do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-Date plan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-Date earned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you think of other impa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tretch/>
        </p:blipFill>
        <p:spPr>
          <a:xfrm>
            <a:off x="6080040" y="4292640"/>
            <a:ext cx="160668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act of Task Modificatio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17360" y="1499760"/>
            <a:ext cx="74134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ice the total plan hours on the task plan and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EK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 increase/decrease to reflect the new/deleted tas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aseline hours on form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EK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reflect the original estim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Baselin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hours diverge from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Curren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hours, what should you do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99" name="Group 11"/>
          <p:cNvGrpSpPr/>
          <p:nvPr/>
        </p:nvGrpSpPr>
        <p:grpSpPr>
          <a:xfrm>
            <a:off x="411120" y="3651120"/>
            <a:ext cx="8410680" cy="2927520"/>
            <a:chOff x="411120" y="3651120"/>
            <a:chExt cx="8410680" cy="2927520"/>
          </a:xfrm>
        </p:grpSpPr>
        <p:pic>
          <p:nvPicPr>
            <p:cNvPr id="200" name="Picture 4" descr=""/>
            <p:cNvPicPr/>
            <p:nvPr/>
          </p:nvPicPr>
          <p:blipFill>
            <a:blip r:embed="rId1"/>
            <a:srcRect l="0" t="32749" r="0" b="0"/>
            <a:stretch/>
          </p:blipFill>
          <p:spPr>
            <a:xfrm>
              <a:off x="411120" y="3651120"/>
              <a:ext cx="8410680" cy="29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Oval 5"/>
            <p:cNvSpPr/>
            <p:nvPr/>
          </p:nvSpPr>
          <p:spPr>
            <a:xfrm>
              <a:off x="1903320" y="4692600"/>
              <a:ext cx="782640" cy="355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2" name="Oval 6"/>
            <p:cNvSpPr/>
            <p:nvPr/>
          </p:nvSpPr>
          <p:spPr>
            <a:xfrm>
              <a:off x="1903320" y="4844880"/>
              <a:ext cx="782640" cy="355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1903320" y="3870360"/>
              <a:ext cx="1052640" cy="1270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management in the TSP involves two activ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tim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ing available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697360" y="2809800"/>
            <a:ext cx="1705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Management – A Time Lo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336600" y="1758960"/>
            <a:ext cx="84754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Time Management – Schedule Plan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17360" y="1452600"/>
            <a:ext cx="741348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s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15920" indent="12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cation dates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15920" indent="12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get sic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15920" indent="12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get pulled off this project to work on other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15920" indent="12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s should only be changed for the future, never the pa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15920" indent="12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s are updated as team members learn more about their actual schedu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389320" y="4775040"/>
            <a:ext cx="6249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Defect Management – A Defect Log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506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tual size data is tracked using a TSP too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tual size data should be entered by the owner of the work product in his or her TSP too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ly Team Meeting -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e Vide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ly Team Meeting -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17360" y="1538280"/>
            <a:ext cx="74134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is the most important single activity that the team can perform to maintain energy and cohe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is the forum that the team uses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progress against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the status on the project's issues and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unicating with each o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meeting, all individual plans are consolidated into a team plan to assess team progr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ach works with the team to prepare for and conduct the weekly team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dividual Responsibilit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fore the planning manager prepares the weekly summary of team data, each individual must ensure that their status is curr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d task, schedule, size, and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meeting, each individual should prep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us against their individual role manager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us against goals assigned to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us or updates against risks and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d task and schedule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t of tasks planned for the next wee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 be abl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st a TSP team in tracking and reporting against their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common occurrences and problems with tracking and reporting, and apply hints for dealing with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ning Manager Responsibilit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17360" y="1558440"/>
            <a:ext cx="74134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lanning manager ensures that all individuals have updated their pla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y haven’t, the planning manager should ask them to do so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y habitually don’t update their plans, they must answer to the team in the weekly meet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a short time, each person should learn to keep their plans current without interven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lanning manager prepares the team summary reports for the meet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raph of earned value (plan versus actual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raph of actual versus planned hour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EEK form, showing tasks completed and planned tasks for the next wee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 Scrip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17360" y="1485720"/>
            <a:ext cx="741348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er to the script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provides a summary of any new developments or team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role manager reports on their assigned role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us is reported against team goals, if status is du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are reviewed as required for that particula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individual reviews progress and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ning manager summarizes team progress and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individual reports on tasks planned for the next week, including any dependenc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reviews expected issues or actions for dealing with the dependenc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wraps up the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During the Mee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17360" y="1517400"/>
            <a:ext cx="741348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s the weekly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s that all individuals are providing status and are actively involved in the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should advise the team on specifically what will be reported to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s to motivate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iggers issues that need to be raised to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eting is intended to promote communication, but should still be held to the times on the agend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issues that need to be discussed in detail should be discussed in a separately-scheduled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porting to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st TSP projects start with strong management suppor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launch process produced a plan, committed the team, and gained acceptance by manage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ment expects the team to work to their plan and to meet their commitm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management does not hear from the team, they get nervou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y suspect proble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y may revert to micromanage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Keep managers informed of the project's statu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port team data from the weekly meeting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ust the level of detail so that your management is comfortable and not over- or underwhelm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swer the need or intent, not the ques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ly Reporting to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starting point, the team should report the following to management on a weekly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ned value for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y of the WEEK 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y of the risks and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nutes from the weekly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management’s reaction, the team can modify the format and content of the report according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eriodic Reporting to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iodically, projects may meet with management and/or the custom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ATUS script is used to guide the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ATUS specification is used to help prepare accurate, complete, concise, and informative management status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Consideratio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ach can work with the team to look at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a daily ba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a weekly ba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ompletion of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ompletion of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ompletion of cyc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ompletion of parts or assembl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each of these points, data are available to help individuals understand where they are and to indicate whether commitments can still be ma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:  On-task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individuals are not getting the number of hours planned, they should consider these ques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are the things that are interrupting on-task time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can these interruptions be reduced or eliminated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hould the planned hours be changed, thus suggesting the need for reassessing the committed date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individuals are getting more hours than planned, they should consider these ques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n they actually increase their planned hours in the future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n they accelerate their work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n they take on more work and still keep their commitment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ver time, the detailed plans will be more comprehensive, and fewer tasks will be miss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:  Quality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found provide clues for finding and preventing similar defects in the fut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were the defects foun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were they inject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they have been found earlie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they be prevented in the futur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testing phases, the quality/process manager should lead a review of defects with the entir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someone to look for and fix remaining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the quality plan (predicted defects based on actual count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the process with needed chan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17360" y="1588680"/>
            <a:ext cx="7413480" cy="47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’s success relies on accurate tracking, collecting, and reporting of individu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s have data that they can periodically look at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ir progr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adjustments in their detailed plans, when necess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lan doesn’t match the work, change the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is an effective forum in which the team c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consolidated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progress against the team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adjustments to team plans, if nee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schedule track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ing to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rom the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s completed a TSP launch and has planned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s made a commitment and obtained management approval to proc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gins to carry out their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will not get the intended benefits of TSP if they do not follow the process, which includes collecting and tracking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hedule Track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485720"/>
            <a:ext cx="741348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tracking in TSP is based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’s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 and task completion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and earned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 plans facilitate precise schedule track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are each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ing data on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status against their personal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of the work that they p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ing the team informed of their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 team member data are consolidated each week so that the team can assess progress agains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ample – Cumulative EV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1" descr=""/>
          <p:cNvPicPr/>
          <p:nvPr/>
        </p:nvPicPr>
        <p:blipFill>
          <a:blip r:embed="rId2"/>
          <a:stretch/>
        </p:blipFill>
        <p:spPr>
          <a:xfrm>
            <a:off x="174600" y="1411200"/>
            <a:ext cx="5265720" cy="3592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"/>
          <p:cNvPicPr/>
          <p:nvPr/>
        </p:nvPicPr>
        <p:blipFill>
          <a:blip r:embed="rId3"/>
          <a:stretch/>
        </p:blipFill>
        <p:spPr>
          <a:xfrm>
            <a:off x="3398760" y="4871880"/>
            <a:ext cx="563724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ample – Planned and Actual Hour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2" descr=""/>
          <p:cNvPicPr/>
          <p:nvPr/>
        </p:nvPicPr>
        <p:blipFill>
          <a:blip r:embed="rId2"/>
          <a:stretch/>
        </p:blipFill>
        <p:spPr>
          <a:xfrm>
            <a:off x="2119320" y="5060880"/>
            <a:ext cx="4829040" cy="155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0" descr=""/>
          <p:cNvPicPr/>
          <p:nvPr/>
        </p:nvPicPr>
        <p:blipFill>
          <a:blip r:embed="rId3"/>
          <a:stretch/>
        </p:blipFill>
        <p:spPr>
          <a:xfrm>
            <a:off x="496800" y="1452600"/>
            <a:ext cx="4011840" cy="359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8" descr=""/>
          <p:cNvPicPr/>
          <p:nvPr/>
        </p:nvPicPr>
        <p:blipFill>
          <a:blip r:embed="rId4"/>
          <a:stretch/>
        </p:blipFill>
        <p:spPr>
          <a:xfrm>
            <a:off x="4533840" y="1449360"/>
            <a:ext cx="40165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fter the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om the launch, each team member has 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the first working day after the laun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o they do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0" name="Picture 5" descr="C:\Documents and Settings\tchick\Local Settings\Temporary Internet Files\Content.IE5\ATUNA1IJ\MCj02304450000[1].wmf"/>
          <p:cNvPicPr/>
          <p:nvPr/>
        </p:nvPicPr>
        <p:blipFill>
          <a:blip r:embed="rId1"/>
          <a:stretch/>
        </p:blipFill>
        <p:spPr>
          <a:xfrm>
            <a:off x="5834160" y="412128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34Z</dcterms:modified>
  <cp:revision>212</cp:revision>
  <dc:subject/>
  <dc:title>No Slide Title</dc:title>
</cp:coreProperties>
</file>